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F0F-4372-4EC7-A995-99DD0478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63A-F352-4B37-AF0C-A2B6A982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AA6-5B7B-4231-AB2F-58F3AC54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0CA-0988-4FB1-96FD-079CC397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362-D97D-4506-B0BA-79905C7E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FE6-DB39-4288-8195-4C2664DC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170-28AF-4F2C-BB65-97C782A1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0B7-0E58-4F99-B61D-435FBFA7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083-A3E8-4FC9-BEE7-27ECA02E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018-110A-418C-A74A-ADC869BA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C73-7C78-4344-849E-C8E9D9A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992-EA13-44DD-AF11-504B47ED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D71E-9752-48FB-80A9-7A7A93BC0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002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D Mercury Accounting Modu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A8A-83E0-45FC-83DC-4B9E5EEA6F5B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53337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3880" y="1219320"/>
            <a:ext cx="6629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tart and end date for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ow balance report shall be printed, Summary vs.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E19-A3C6-4CA7-B671-7621902533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563400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07E-5AC0-4F95-949E-20CBC1E126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14720" y="1447920"/>
            <a:ext cx="5857560" cy="426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924680" y="5486400"/>
            <a:ext cx="5335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846-CFDF-4952-B13D-D304796DCE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ta in Quickboo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99072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E sales are exported by sale date of transac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 sales are export by z-out date if the z-out date is different than the sale dat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dividual sale data is not exported to Quickbook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 is exported only as daily totals for each day in the date range selected.  Detail is found in FTD Mercury Reports (Mercury Form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ily totals include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sh &amp; checks receiv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dit cards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use account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livery &amp; service charge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duct category of the item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659-4737-475B-A76B-0DB10338A7BE}" type="slidenum">
              <a:t>13</a:t>
            </a:fld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43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53080" y="1676160"/>
            <a:ext cx="194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4827600" cy="384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6552360" y="1981080"/>
            <a:ext cx="8384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00800" y="3962520"/>
            <a:ext cx="838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EA7-6C6A-4D4F-A93D-93F30398BF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 Explaine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$100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D Merc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lower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$59.99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ishables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59.9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colat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12.95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2.9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20.00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Income    $20.0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7.06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Tax Payable $7.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sh Paid $10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k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s are part of the ‘Perishables’ product catego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colate is part of the ‘Candy’ product categ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096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27432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1240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5812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96252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43434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759-5E03-47DD-8FB9-D426EF58F5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ndling Wire Order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on wire ord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ing flori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selling commission of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ing flor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for product &amp; delivery less the sending florist commission and wire service commission of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002-3D5D-48BC-9B24-C37199DA14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Wire Orders Appear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payment of wire order is transferred into Accounts Receiv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of sales of product category f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 Payment from custo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%) Product &amp; Delivery (Outgoing s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0%) Accounts Pay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80% that is paid to FTD on outgoing 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776-4F52-4E9E-AEED-1240DD45F5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ust make journal entries in Quickbooks to account for what you are actually paid on wire ord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entries are already made in Quickboo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Payable  (80% paid to FTD on 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100% of amount received over the wire on incoming or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876-068B-4657-8D4E-14E77A317D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ntries will you have to make in Quick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ommissions Expense (20% kept by sending florist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dvance Expense (7% commission to FTD taken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s and other charges for wire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wire service expenses and cred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2CD-C710-4D69-A16C-130C2412FF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Basic Concep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data is transferred\exported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TD Mercury exports sales data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e FTD Mercury sales data appears in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handle the payment of wire orders from your monthly clearinghous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94F-8E84-4DB6-853B-77FA35A3427A}" type="slidenum">
              <a:t>2</a:t>
            </a:fld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’s look at an FTD Clearing House Statem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ection B from the Clearing House Statement page labeled ‘ FTD Member Activity Statement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not use the amount listed for Section B from the Statement Summary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mmary page does not show the amounts that you need to enter for  ‘Commission Expense’ and ‘Wire Service Commission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541-5006-4E4F-A4B7-01AB5044A8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mber Activity Statement – Section B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95520" y="1886040"/>
            <a:ext cx="70945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75B-912A-4F5F-8690-E70A3AFE6D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95880" cy="292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267080"/>
            <a:ext cx="769608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Add all 20 % commissions given for incoming orders. This is your ‘Commissions Expen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learing House &amp; Marketing Advance is the ‘ Wire Service Commissio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860-EF5E-419E-831A-203AEF6702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example,  FTD wire service commission equals $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‘Wire Commission Expense’ 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3.4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44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5791320" cy="2768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6" name=""/>
          <p:cNvSpPr/>
          <p:nvPr/>
        </p:nvSpPr>
        <p:spPr>
          <a:xfrm flipH="1">
            <a:off x="6781680" y="243828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781680" y="27432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781680" y="3429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C30-CE22-416D-BD14-ED7BB93296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F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to Sending Flor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Wire Com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062-B66E-4833-B47E-EFC36709E6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4343400"/>
            <a:ext cx="7696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Subtract all 20 % commissions earned for the amount listed above for outgoing orders. This is the 80% paid to FTD on outgoing orders. This amount has already been calculated for you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F02-B51C-43D7-AE96-E47AEC53E5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343400"/>
            <a:ext cx="769608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n this example FTD accounts payable total is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$1992.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8.00 –     5.60 =    22.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409.00 - 481.80 = 197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15000" y="4724280"/>
            <a:ext cx="2209680" cy="3812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638680" y="4724280"/>
            <a:ext cx="2286000" cy="8384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218-AC73-4A6E-9647-D3B9A1598A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Accts Payab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CF4-103D-4E2C-8C19-6F1703739F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Adjustment &amp; other char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have to additional entries for adjustments, taxes or Retrans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ntries should be made to the appropriate accounts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76C-B348-4AF2-AF78-96D4DAA9FD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ther Wire Expenses &amp; Credi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order related expenses and rebates will appear in other sections of the clearing hous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hould be entered into Quickbooks to accounts of your ch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eed to create additional accounts in Quickbooks to track these expenses and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2C5-2BE3-4AC5-BBFA-71FC6129D6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eligible for expor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ENTERED INTO THE SYSTEM THAT MEETS THE CRITERI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F96-BFAD-479E-AE43-49C6C03144C3}" type="slidenum">
              <a:t>3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Clearing Accou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earing account can be used to ensure all entries you make in Quickbooks are accu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books follows GAAP Generally Accepted Accounting Princ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s that you make an offsetting journal entry when entering in expenses and cre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ring account for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85D-2CA6-46FA-8152-11C843556E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make an entry for 20% commissions given on incoming orders you would offset this entry against the clearing accou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ll expenses and credit are offset to the same clearing account this ensures the entries are made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all activity has been entered from the clearing house statement and offset to the clearing account, the remaining balance on the clearing account will represent a amount that is owed to FTD or a check received from F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0F1-E3A7-40C6-A935-AA7996637C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mount that remains in the clearing account received should match the amount showing on the clearing house stat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 once a check has been deposited from FTD or and check written to FTD that entry will be made against the clearing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entry will clear the balance in the clearing accou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0B7-B413-4231-B98C-CC01DDD5BB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8A3-E45C-46F1-81BC-82234E777D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iteria For Dat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mpleted Order Entry  &amp; Point Of Sa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OS sales in a closed POS session (z-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account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entered from ‘Manual Ticket’ window (Credit &amp; debit me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e 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E44-9633-4136-8A30-36796936776E}" type="slidenum">
              <a:t>4</a:t>
            </a:fld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rt of Accounts Setu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5638680" cy="363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486400" y="2286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346-A7BC-4BD2-9B79-A90DB3B4A9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rt of Account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 of accounts creates the Quickbooks company file where data will be ex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 also transfers any changes made in FTD Mercury that will affect the structure of the Quickbooks company file. i.e. creating a new product categ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make decisions on how you want certain types of information to transfer to Quick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E67-78B1-49A5-ABF9-6505A879C9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 Setup: What You Must Consid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 Store Setu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mpany file for all vs. separate company file for e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sh Depos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ash holding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dit Card depos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redit card holding account (Accounts Re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id Outs &amp; In from 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ng expense vs. Cost of Goods S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E09-AD97-46C2-ACF9-82C44270A7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Featur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dditional bank accou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beginning date for the ex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\change GL account numb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02F-CFDA-4283-B2D2-37D3872A61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exported (transferred) to Quickbooks through the Balance Wizard option from Accoun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5105520" cy="329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5638680" y="36576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450-9364-48E6-9B19-19DB69B57F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TAC3740</cp:lastModifiedBy>
  <cp:lastPrinted>2004-05-28T16:39:18Z</cp:lastPrinted>
  <dcterms:modified xsi:type="dcterms:W3CDTF">2008-10-09T18:36:51Z</dcterms:modified>
  <cp:revision>44</cp:revision>
  <dc:subject/>
  <dc:title>PowerPoint Presentation</dc:title>
</cp:coreProperties>
</file>